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1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26547-2247-4E58-BE35-DFEB13B70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825D2-CB01-46A4-AFAF-B42D4218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69079-FCE4-43DF-BC71-0066460A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9E63D0-38B3-40ED-8500-58C19D86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F0AEF-DBBE-45FC-8862-F6EA11C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C7417-4D68-4080-B2A4-2AF6E1D7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0409D2-CB68-46A5-AC58-A5BD7651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3CF1AD-0925-415D-AF82-E95B9DEA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F18348-E194-41F3-8A7E-30E9D4BA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9CD71-A333-40FD-AA9E-C7D7B6AD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44650D-12DB-476D-9DA7-D9AB8D1A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4FC194-4D2F-4985-8108-1C1DBC48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et-Centric Framework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330066"/>
                </a:solidFill>
                <a:latin typeface="Times New Roman"/>
              </a:rPr>
              <a:t>Natawut Nupairoj, Ph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8496-E54C-4A1B-A8D3-7E02141AC11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8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Net-Centric Framework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10472 Computer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awut Nupairoj, Ph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lalongkor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ree-Ti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base + Web server with Browsers (Thin client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666880" y="2819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819160" y="3886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7432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ap and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imple to manage with good sec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lightly difficult to devel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3124080"/>
            <a:ext cx="609480" cy="152424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33720" y="3124080"/>
            <a:ext cx="685800" cy="15242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9880" y="259092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343400" y="365760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3920" y="4876920"/>
            <a:ext cx="53316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523880" y="3886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H="1">
            <a:off x="121932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4379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2438280"/>
            <a:ext cx="1143000" cy="30481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Multi-Tier – The Current Trend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305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base + App + Web server with Browser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666880" y="281916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2819160" y="38862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2743200" y="43430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flex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expens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3124080"/>
            <a:ext cx="609840" cy="152424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76520" y="2895480"/>
            <a:ext cx="685800" cy="6098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809880" y="259092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3657600"/>
            <a:ext cx="53352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876920"/>
            <a:ext cx="533160" cy="380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66880" y="3124080"/>
            <a:ext cx="533520" cy="152424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76520" y="3657600"/>
            <a:ext cx="685800" cy="6094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676520" y="4419720"/>
            <a:ext cx="685800" cy="6094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v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-Centric Applications requ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work hor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 server, Application server, Database server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road, an express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net, Intranet, proprietary networks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HTML, MIME, EDI, XML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messen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rmal HTTP, HTTPS, Message Queue, 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bas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ing serv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balanc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ing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action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xy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 cache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 Serv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324480" y="2590920"/>
            <a:ext cx="1676520" cy="1676160"/>
            <a:chOff x="6324480" y="2590920"/>
            <a:chExt cx="1676520" cy="1676160"/>
          </a:xfrm>
        </p:grpSpPr>
        <p:graphicFrame>
          <p:nvGraphicFramePr>
            <p:cNvPr id="231" name=""/>
            <p:cNvGraphicFramePr/>
            <p:nvPr/>
          </p:nvGraphicFramePr>
          <p:xfrm>
            <a:off x="6324480" y="2590920"/>
            <a:ext cx="1676520" cy="1676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3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324480" y="2590920"/>
                      <a:ext cx="1676520" cy="1676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3" name=""/>
            <p:cNvSpPr/>
            <p:nvPr/>
          </p:nvSpPr>
          <p:spPr>
            <a:xfrm>
              <a:off x="6758640" y="3200040"/>
              <a:ext cx="746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657600" y="2514600"/>
            <a:ext cx="1828800" cy="1828800"/>
            <a:chOff x="3657600" y="2514600"/>
            <a:chExt cx="1828800" cy="1828800"/>
          </a:xfrm>
        </p:grpSpPr>
        <p:sp>
          <p:nvSpPr>
            <p:cNvPr id="235" name=""/>
            <p:cNvSpPr/>
            <p:nvPr/>
          </p:nvSpPr>
          <p:spPr>
            <a:xfrm>
              <a:off x="394092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p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576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914400" y="2514600"/>
            <a:ext cx="1828800" cy="1828800"/>
            <a:chOff x="914400" y="2514600"/>
            <a:chExt cx="1828800" cy="1828800"/>
          </a:xfrm>
        </p:grpSpPr>
        <p:sp>
          <p:nvSpPr>
            <p:cNvPr id="238" name=""/>
            <p:cNvSpPr/>
            <p:nvPr/>
          </p:nvSpPr>
          <p:spPr>
            <a:xfrm>
              <a:off x="1197360" y="2895480"/>
              <a:ext cx="1378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We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4400" y="2514600"/>
              <a:ext cx="1828800" cy="1828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7432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8640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to Serve a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server a p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page: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p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GI model: out-proc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eb server internal module: in-proces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pplication server: plug-in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ing Dynamic P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on Gateway Interface (CG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rnal extension (program) for web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mostly to connect to databa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rly d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 and per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unter, guest book, graph generat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ut-of-process mode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asic CGI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38095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blem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st run a new program every time it is being invoked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-process model – include interpreter inside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od_per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S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476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ust be resided in the server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81480" y="1981080"/>
            <a:ext cx="1524240" cy="1524240"/>
          </a:xfrm>
          <a:prstGeom prst="ellipse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Extern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590920"/>
            <a:ext cx="1904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3276360" y="2971800"/>
            <a:ext cx="19047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7960" y="227016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660480" y="297180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ML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lication Ser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gine to create dynamic p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let Engine: JSP / Servl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.Net / VB.N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JB Container: host EJB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ug-in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g-in at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e through soc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 reside on the same or separate serv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SP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1676520" y="1809720"/>
            <a:ext cx="617220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Network is Computer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Sun Microsyst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ervlet 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.io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x.servlet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mport javax.servlet.http.*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class HelloWorldServlet extends HttpServlet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ublic void doGet (HttpServletRequest req, HttpServletResponse 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rows ServletException, IOException {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TML res.setContentType( "text/html" )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rvletOutputStream out = res.getOutputStream(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tml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ead&gt;&lt;title&gt;Hello World&lt;/title&gt;&lt;/head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body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h1&gt;Hello World&lt;/h1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p&gt;Congratulations, your servlet is working!&lt;/p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/body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ut.println( "&lt;/html&gt;" 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2EE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595152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JB Basic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5224680" cy="43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Net-Centric</a:t>
            </a:r>
            <a:r>
              <a:rPr b="1" lang="th-TH" sz="3900" spc="-1" strike="noStrike">
                <a:solidFill>
                  <a:srgbClr val="330066"/>
                </a:solidFill>
                <a:latin typeface="Arial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1793880" cy="173052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4876920" y="1905120"/>
            <a:ext cx="1590480" cy="2266920"/>
            <a:chOff x="4876920" y="1905120"/>
            <a:chExt cx="1590480" cy="2266920"/>
          </a:xfrm>
        </p:grpSpPr>
        <p:graphicFrame>
          <p:nvGraphicFramePr>
            <p:cNvPr id="267" name=""/>
            <p:cNvGraphicFramePr/>
            <p:nvPr/>
          </p:nvGraphicFramePr>
          <p:xfrm>
            <a:off x="5432400" y="1905120"/>
            <a:ext cx="654120" cy="1733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6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432400" y="1905120"/>
                      <a:ext cx="6541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9" name=""/>
            <p:cNvGraphicFramePr/>
            <p:nvPr/>
          </p:nvGraphicFramePr>
          <p:xfrm>
            <a:off x="4876920" y="2409840"/>
            <a:ext cx="654120" cy="17334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27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876920" y="2409840"/>
                      <a:ext cx="654120" cy="1733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1" name=""/>
            <p:cNvGraphicFramePr/>
            <p:nvPr/>
          </p:nvGraphicFramePr>
          <p:xfrm>
            <a:off x="5813640" y="2438280"/>
            <a:ext cx="653760" cy="17337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2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813640" y="2438280"/>
                      <a:ext cx="653760" cy="17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273" name=""/>
          <p:cNvGraphicFramePr/>
          <p:nvPr/>
        </p:nvGraphicFramePr>
        <p:xfrm>
          <a:off x="7162920" y="2133720"/>
          <a:ext cx="1128600" cy="1676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162920" y="2133720"/>
                    <a:ext cx="112860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6477120" y="4876920"/>
          <a:ext cx="2373120" cy="11476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477120" y="4876920"/>
                    <a:ext cx="2373120" cy="11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"/>
          <p:cNvGraphicFramePr/>
          <p:nvPr/>
        </p:nvGraphicFramePr>
        <p:xfrm>
          <a:off x="1905120" y="5029200"/>
          <a:ext cx="1407960" cy="927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905120" y="5029200"/>
                    <a:ext cx="1407960" cy="92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9" name=""/>
          <p:cNvSpPr/>
          <p:nvPr/>
        </p:nvSpPr>
        <p:spPr>
          <a:xfrm>
            <a:off x="3124080" y="3048120"/>
            <a:ext cx="1676520" cy="144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3048120"/>
            <a:ext cx="685800" cy="144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4114800"/>
            <a:ext cx="609480" cy="83808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352680" y="4038120"/>
            <a:ext cx="1600200" cy="1143000"/>
          </a:xfrm>
          <a:prstGeom prst="line">
            <a:avLst/>
          </a:prstGeom>
          <a:ln w="57240">
            <a:solidFill>
              <a:srgbClr val="33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1676520"/>
            <a:ext cx="4647960" cy="266688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86040" y="3733920"/>
            <a:ext cx="21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50160" y="38098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Biz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11560" y="533412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0066"/>
                </a:solidFill>
                <a:latin typeface="Tahoma"/>
              </a:rPr>
              <a:t>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0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 Issu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many users can we support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9% of 7 x 24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ponsiven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long can a user tolerat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ecure can it b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Infra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609480" y="1600200"/>
          <a:ext cx="8177400" cy="43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1774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siness Data Exchan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companies exchange docum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rmal mail (snail mail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a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C department store sends an order form to XYZ cloth manufacture via fax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s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Exchange Forma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e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V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xed-column forma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rietary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nary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-dependent forma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tandard forma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I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/ ebXM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Overview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tensible Markup Language (XM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come increasingly popula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milar to HTM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cus on describing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human and mach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nguage for creating other languag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e synta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-define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ample PO in XML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xml version = "1.0"?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urchase-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o-number&gt;1234&lt;/po-numb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ate&gt;l999-02-08&lt;/date&gt;&lt;time&gt;14:05&lt;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address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illing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ordnum=“102" 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reference&gt;097251&lt;/referen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description&gt;Widgets&lt;/description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quantity&gt;4&lt;/quantity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unit-price&gt;11.99&lt;/unit-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price&gt;47.96&lt;/pric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purchase-order&gt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Net-Centric Computing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pplications on distributed environment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than one machine / one use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ultiple platform is possibl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can we exchange data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tandard data format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9051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istributed environ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ata are ex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mong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pe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cross a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on as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s-needed ba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ement: tag and cont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po-number&gt;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1234</a:t>
            </a:r>
            <a:r>
              <a:rPr b="1" lang="en-US" sz="28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po-number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ttribute: name and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= Data of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ordnum="102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or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ordnum&gt;1&lt;/ordnu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te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Componen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sted el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billin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company&gt;XMLSolutions&lt;/company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address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treet&gt;601 Pennsylvania Ave. NW&lt;/street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address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billing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User-Defined XML Stru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XML basic synta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pattern of all XML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ay about “structure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basic syntax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well-forme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-Defined XM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“tags” and “attributes” are allow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cribe the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llowed “structure” = </a:t>
            </a: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valid docum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XML in Act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29000" y="3048120"/>
            <a:ext cx="2590920" cy="1295280"/>
          </a:xfrm>
          <a:prstGeom prst="ellipse">
            <a:avLst/>
          </a:prstGeom>
          <a:solidFill>
            <a:srgbClr val="7e9ce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  <a:ea typeface="Arial"/>
              </a:rPr>
              <a:t>XM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57400" y="365760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33526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3733920"/>
            <a:ext cx="1371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391520" y="35053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es/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4648320" y="441972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200400" y="548640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TD / XML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867280" y="2286000"/>
            <a:ext cx="2743200" cy="609480"/>
          </a:xfr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Arial"/>
              </a:rPr>
              <a:t>Check input using basic syntax and D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ata Deli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w to exchange data between 2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nual: Email attached fil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ic: HTTP using form upload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ure: HTTP + SSL = HTTP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le: using message que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e Oriented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ly integ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ually between applic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at functional lev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2438280" y="2971800"/>
          <a:ext cx="5410440" cy="32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971800"/>
                    <a:ext cx="5410440" cy="32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int-to-Point  -- “Message Queu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der (put) / receiver (get) / message queue (mailbox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r-Consumer mode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1219320" y="3200400"/>
            <a:ext cx="674676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essaging Model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21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sh-Subscrib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blisher / subscriber / message topi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746760" cy="36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umma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-Centric Applications requi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work hor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etwork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road, an express wa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forma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a messag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ta deliver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the messeng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What is Net-Centric Computing 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3733920"/>
            <a:ext cx="8229600" cy="23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you my peer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urity issu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soon is as-neede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al-time / batch data exchanging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sh / Pul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9051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istributed environme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where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pplicat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data are exchang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mong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pe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across a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network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on as </a:t>
            </a:r>
            <a:r>
              <a:rPr b="0" lang="en-US" sz="3000" spc="-1" strike="noStrike">
                <a:solidFill>
                  <a:srgbClr val="7e9ce8"/>
                </a:solidFill>
                <a:latin typeface="Arial"/>
                <a:ea typeface="Arial"/>
              </a:rPr>
              <a:t>as-needed ba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ferenc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. Tilley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t al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“The State of Net-Centric Computing in Early 2001”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The Proceeding of the 3rd International Workshop in Net-Centric Comput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ay 2001, pp. 57-6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. Tilley, “The Era of Net-Centric Computing”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I Interac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Vol.1, No.1, June 199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. Peacock, “Distributed Architecture Technologies”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EEE IT Profession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May/June 2000, pp. 58-6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is NCC, really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formation system (application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ultiple machin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ver the network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amlessly integrat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ing standard data forma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some secur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Example, anyone 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NCC 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 alone system is not enoug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you know “Starcraft” 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ive among us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works are workflows by na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ol of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are disks, tapes backup, prin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entralized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lication co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consistenc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much more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he Revolution of NCC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ier”-based paradig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re the codes (or logics) ar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sentation / Business / Data logic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ypes of NCC architec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ent/server (two-tier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ree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ulti-ti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ngle-Ti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inframe with “dumb” terminal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809880" y="3733920"/>
          <a:ext cx="1041480" cy="71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733920"/>
                    <a:ext cx="1041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276720" y="2666880"/>
          <a:ext cx="1041120" cy="71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666880"/>
                    <a:ext cx="1041120" cy="7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200400" y="4876920"/>
          <a:ext cx="1041480" cy="71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4876920"/>
                    <a:ext cx="1041480" cy="71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 flipV="1">
            <a:off x="2438280" y="28954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590560" y="3962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2514600" y="44193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ood security and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impro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endor “locked-i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3720" y="3200400"/>
            <a:ext cx="533160" cy="1523880"/>
          </a:xfrm>
          <a:prstGeom prst="rect">
            <a:avLst/>
          </a:prstGeom>
          <a:solidFill>
            <a:srgbClr val="d8d8e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3200400"/>
            <a:ext cx="533520" cy="1523880"/>
          </a:xfrm>
          <a:prstGeom prst="rect">
            <a:avLst/>
          </a:prstGeom>
          <a:solidFill>
            <a:srgbClr val="e4f2d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3200400"/>
            <a:ext cx="533520" cy="1523880"/>
          </a:xfrm>
          <a:prstGeom prst="rect">
            <a:avLst/>
          </a:prstGeom>
          <a:solidFill>
            <a:srgbClr val="fefe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ent/Server 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75438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atabase server with fat clients (PC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476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B / Developer 2000 + SQL Databas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981080" y="3124080"/>
            <a:ext cx="11430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2133360" y="41911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057400" y="464796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2666880"/>
            <a:ext cx="3429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o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eap and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fficult to man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erform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ecurity proble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657600" y="3962520"/>
            <a:ext cx="838080" cy="380880"/>
            <a:chOff x="3657600" y="3962520"/>
            <a:chExt cx="838080" cy="380880"/>
          </a:xfrm>
        </p:grpSpPr>
        <p:sp>
          <p:nvSpPr>
            <p:cNvPr id="184" name=""/>
            <p:cNvSpPr/>
            <p:nvPr/>
          </p:nvSpPr>
          <p:spPr>
            <a:xfrm>
              <a:off x="3962520" y="39625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657600" y="396252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295280" y="3429000"/>
            <a:ext cx="838080" cy="1523880"/>
            <a:chOff x="1295280" y="3429000"/>
            <a:chExt cx="838080" cy="1523880"/>
          </a:xfrm>
        </p:grpSpPr>
        <p:sp>
          <p:nvSpPr>
            <p:cNvPr id="187" name=""/>
            <p:cNvSpPr/>
            <p:nvPr/>
          </p:nvSpPr>
          <p:spPr>
            <a:xfrm>
              <a:off x="1295280" y="3429000"/>
              <a:ext cx="533160" cy="1523880"/>
            </a:xfrm>
            <a:prstGeom prst="rect">
              <a:avLst/>
            </a:prstGeom>
            <a:solidFill>
              <a:srgbClr val="e4f2d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828440" y="3429000"/>
              <a:ext cx="304920" cy="1523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124080" y="2895480"/>
            <a:ext cx="838080" cy="380880"/>
            <a:chOff x="3124080" y="2895480"/>
            <a:chExt cx="838080" cy="380880"/>
          </a:xfrm>
        </p:grpSpPr>
        <p:sp>
          <p:nvSpPr>
            <p:cNvPr id="190" name=""/>
            <p:cNvSpPr/>
            <p:nvPr/>
          </p:nvSpPr>
          <p:spPr>
            <a:xfrm>
              <a:off x="3429000" y="289548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289548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048120" y="5105520"/>
            <a:ext cx="838080" cy="380880"/>
            <a:chOff x="3048120" y="5105520"/>
            <a:chExt cx="838080" cy="380880"/>
          </a:xfrm>
        </p:grpSpPr>
        <p:sp>
          <p:nvSpPr>
            <p:cNvPr id="193" name=""/>
            <p:cNvSpPr/>
            <p:nvPr/>
          </p:nvSpPr>
          <p:spPr>
            <a:xfrm>
              <a:off x="3353040" y="5105520"/>
              <a:ext cx="533160" cy="380880"/>
            </a:xfrm>
            <a:prstGeom prst="rect">
              <a:avLst/>
            </a:prstGeom>
            <a:solidFill>
              <a:srgbClr val="d8d8e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048120" y="5105520"/>
              <a:ext cx="304920" cy="380880"/>
            </a:xfrm>
            <a:prstGeom prst="rect">
              <a:avLst/>
            </a:prstGeom>
            <a:solidFill>
              <a:srgbClr val="fefe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3T07:23:22Z</dcterms:created>
  <dc:creator>Natawut</dc:creator>
  <dc:description/>
  <dc:language>en-US</dc:language>
  <cp:lastModifiedBy>Natawut Nupairoj</cp:lastModifiedBy>
  <dcterms:modified xsi:type="dcterms:W3CDTF">2003-07-01T14:24:01Z</dcterms:modified>
  <cp:revision>14</cp:revision>
  <dc:subject/>
  <dc:title>Net-Centric Computing Overview</dc:title>
</cp:coreProperties>
</file>